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3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4.jpeg" ContentType="image/jpeg"/>
  <Override PartName="/ppt/media/image23.jpeg" ContentType="image/jpeg"/>
  <Override PartName="/ppt/media/image12.png" ContentType="image/png"/>
  <Override PartName="/ppt/media/image21.png" ContentType="image/png"/>
  <Override PartName="/ppt/media/image19.png" ContentType="image/png"/>
  <Override PartName="/ppt/media/image20.jpeg" ContentType="image/jpeg"/>
  <Override PartName="/ppt/media/image28.jpeg" ContentType="image/jpeg"/>
  <Override PartName="/ppt/media/image18.png" ContentType="image/png"/>
  <Override PartName="/ppt/media/image6.jpeg" ContentType="image/jpeg"/>
  <Override PartName="/ppt/media/image22.jpeg" ContentType="image/jpeg"/>
  <Override PartName="/ppt/media/image9.png" ContentType="image/png"/>
  <Override PartName="/ppt/media/image39.png" ContentType="image/png"/>
  <Override PartName="/ppt/media/image38.png" ContentType="image/png"/>
  <Override PartName="/ppt/media/image8.png" ContentType="image/png"/>
  <Override PartName="/ppt/media/image7.png" ContentType="image/png"/>
  <Override PartName="/ppt/media/image37.png" ContentType="image/png"/>
  <Override PartName="/ppt/media/image27.jpeg" ContentType="image/jpeg"/>
  <Override PartName="/ppt/media/image10.png" ContentType="image/png"/>
  <Override PartName="/ppt/media/image30.png" ContentType="image/png"/>
  <Override PartName="/ppt/media/image11.png" ContentType="image/png"/>
  <Override PartName="/ppt/media/image35.png" ContentType="image/png"/>
  <Override PartName="/ppt/media/image5.jpeg" ContentType="image/jpeg"/>
  <Override PartName="/ppt/media/image26.jpeg" ContentType="image/jpeg"/>
  <Override PartName="/ppt/media/image36.png" ContentType="image/png"/>
  <Override PartName="/ppt/media/image13.jpeg" ContentType="image/jpeg"/>
  <Override PartName="/ppt/media/image34.png" ContentType="image/png"/>
  <Override PartName="/ppt/media/image4.png" ContentType="image/png"/>
  <Override PartName="/ppt/media/image33.png" ContentType="image/png"/>
  <Override PartName="/ppt/media/image3.png" ContentType="image/png"/>
  <Override PartName="/ppt/media/image32.png" ContentType="image/png"/>
  <Override PartName="/ppt/media/image2.png" ContentType="image/png"/>
  <Override PartName="/ppt/media/image25.jpeg" ContentType="image/jpeg"/>
  <Override PartName="/ppt/media/image31.png" ContentType="image/png"/>
  <Override PartName="/ppt/media/image1.png" ContentType="image/png"/>
  <Override PartName="/ppt/media/image14.png" ContentType="image/png"/>
  <Override PartName="/ppt/media/image15.jpeg" ContentType="image/jpeg"/>
  <Override PartName="/ppt/media/image16.jpeg" ContentType="image/jpeg"/>
  <Override PartName="/ppt/media/image17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</p:sldIdLst>
  <p:sldSz cx="9144000" cy="6858000"/>
  <p:notesSz cx="6858000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75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2600" y="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992160" y="731520"/>
            <a:ext cx="4872240" cy="365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260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B35BE-F8AB-4018-B752-888C1701878D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992160" y="731880"/>
            <a:ext cx="4872240" cy="36558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3" name="슬라이드 번호 개체 틀 3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94B0B-DF7F-4AEA-A2FE-708864B8628F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6E054-3156-48E6-8D52-E9826A3FD0C6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5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B4662-C6FE-49EC-B74C-0EC97B68F6EF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944DF-3913-4919-AAE4-1D2ADCCA1066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1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8EB5F-1A1C-4087-BB05-576A74B91D5B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4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3EF71-D4D2-4099-8F65-2ADB104EBC4F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7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36B69-686D-4CA8-8590-9575DE192E30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0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FE36A-CF77-4AEF-94C4-4909251E6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2BE22-4146-4D95-BDF0-16E24B916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3DF43-9F47-4334-8A79-F0A0F9ABA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9CDAE-AA3B-4EB5-95D9-820BEF1E9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DA8F5-4ED3-4F7C-BAA3-5851748D1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D3DAF-C44C-4300-8787-A567ABC73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9814F-2F4E-49EF-B240-F75442F34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2D375-B1D6-430D-B7B9-6B0C205D0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BE228-EB39-440D-9632-2773D508D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2D9D9-851B-4CCE-920B-080C18079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8E11D-ACBF-442B-A823-34A655F6A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6A42F-073A-434A-B471-19AC8EDB4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DE014-6FC4-43C6-9795-17E367D2D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B7410-33BD-481B-B069-62C94F6AD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C2CC7-EE9A-4DFD-9DA0-7A54B6481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FDCF9-A283-4B8C-AC0F-FFE43C869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5A535-B632-4B4C-B0D6-1FB6C440D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689451-FC71-41D1-A987-2815B10B1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710DAB-A90C-411B-90E1-64D76D0E6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70DAAA-51A6-4EC7-945F-D5585DE25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CCC4F4-7EBF-44A7-A696-5979DE005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0E52E8-AF8E-45D3-B258-DE8D37C1C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2B83F-8800-42BA-AE5A-43E5ED392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C48CCB-EF81-4E5B-A360-E1C77A95C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027E28-783E-40FE-A743-8916641E4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81C2DE-A448-4D9A-86FA-54575EB6B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F331E8-7A06-46AC-8FD8-EC107BB4E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37D45E-53C0-4F1E-8C0A-49D9387E6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FFACA4-C109-45FA-BC19-DA8B455F5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F62BF9-B4BA-4D8B-B88D-106DDB91C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D1533C-87B0-42B8-AF92-53C9E71F9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F12BCA-EEE7-40AB-B6D2-BB3A411AC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C394E7-CAAC-45C4-8B36-74BA314F4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FFECC-ECBD-41FF-9417-DE67FD2EF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728734-1A08-49BF-95A6-EF92A7C65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43E948-9D59-403C-8682-8617C278A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77B5D7-4A28-4215-A845-053086E59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353DC9-097C-4A5F-A502-50BB8FD6B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2F0682-2595-42ED-9653-743B7F46A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A33CC6-BCDE-4BA3-942A-B9810A8A7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B709D1-CBAA-4C1B-9958-984F99A46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136C59-0B93-4859-AEBF-DDA7275B8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53D2D2-200A-47DD-A354-C19092ADB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216A19-8F80-4EFE-846B-D40D3ED02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40017-9361-4F47-A9B9-CAA80C65A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682891-CBB1-4A88-B66A-A7293BF01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2D3D8D-18C3-448B-B779-A855DEF31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6F6ACF-F59A-42DD-B329-02031EF84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A32C87-C0B1-4726-999E-20A69413C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DD2CA9-5D92-4214-AB46-FF24A16B5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5074B2-A311-4632-8A78-E071024E3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0665C7-278B-458A-9D1E-AA629675E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C7E2BE-149E-4B9B-926B-0514015A5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39C65B-186D-4DFF-B798-D3DDC04BB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1B8BD8-06B8-4B44-A271-3CD6FEFD5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FCC0F-C837-4EB4-A2A9-AC8A540B0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23E407-1F88-4A99-B9B5-0585FDA5B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B1CCF5-BDD1-4D0C-8BF2-BD63F756E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4824B9-4E0F-4DC3-956A-04FBC1300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2B759E-CED2-4447-9704-1D587273A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6423D0-7172-4CDD-8599-C3105FBA7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7749A7-82A1-4FDB-8BD8-3A51D9D84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64A8D8-B182-467D-80DA-DA8C50408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387B7C-1317-4FCD-B740-98D4C94AA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4D4AB2-022F-4D7B-BF3D-F0294EF80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8C04CF-439A-4B95-AD61-C7011D963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09AD7-89C8-49FA-9862-F038F6A2B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3ED29D-D4F8-4C53-87D5-429F38A20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E7FC44-5F89-41C7-9264-143029A6E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E390C4-D79A-409D-BB67-AC9F13B6A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DAC913-2958-44E4-A1FE-52C9F3184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4DDFA8-F812-4CCD-B716-57FDCD560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9FC16F-7405-490B-A570-EFA7C6D12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ED9E7C-16FE-4672-A85F-3A5A13EE5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23CD87-33D8-4E77-82A1-4C21B5D9D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B34BA6-4E65-4BB6-9E5E-2AFAB72BB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004FAC-BFCA-408C-96F7-C396D25CE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EE63A-F8C9-4B67-B2A6-B8B0EBFC5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61372C-ADAF-4753-A29D-947F24D2D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F3D7B1-07C7-4D9B-BC62-3B92B69B5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8C228F-F292-4C3E-9F5B-9741E1BE5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BC9F20-6A0D-4124-BC4D-E8881432D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D994A9-E3B6-4E92-A2C1-364885444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5F26AB-AB94-4FD7-9B61-E10E70AF4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E33199-3378-4EE9-9223-D7E9AD917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1D0553-82ED-47EB-B807-04226A1C7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ABE7F3-2208-4BCF-A528-893BBB07E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08B123-C68B-4A5F-B7B0-BFF52CB59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03E83-D7CC-43B4-8674-36432C4FE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33E572-C58D-4E8E-B544-3FBCF1280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BFB0AB-1F97-4154-9484-8B858AF29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DBBEDE-CA34-4BA0-80EB-6855525DC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05CBF5-BD16-4406-8046-1D389C7DE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BA065D-2209-44DD-B07C-BA2886B06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641D36-7363-48A1-9F40-0201C0339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11BE9F-9BB3-49C1-8F5E-21633A9BD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직각 삼각형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5" name="직선 연결선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04904-AFCF-470F-A85C-D4D6743F112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직각 삼각형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8" name="그룹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자유형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0" name="자유형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1" name="자유형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자유형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pic>
          <p:nvPicPr>
            <p:cNvPr id="54" name="직선 연결선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798E5-632C-48D7-9D89-6EDCF8148C9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98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직각 삼각형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101" name="직선 연결선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갈매기형 수장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갈매기형 수장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80082-E463-4090-91DE-14C6AF72F66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7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직각 삼각형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150" name="직선 연결선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EB41A-7C4E-49D3-AA0D-40FAB067757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74933-5416-44B1-8C6E-E235A842039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35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직각 삼각형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238" name="직선 연결선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BCD01-23A2-4BB9-94A8-DAA8C02B08B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729C2-8D72-448F-BB10-2072E02749D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자유형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2" name="자유형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323" name="직각 삼각형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직각 삼각형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326" name="직선 연결선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갈매기형 수장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8" name="갈매기형 수장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090F4-9264-4049-91F2-EFE0E43C684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Rectangle 2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137440" cy="184752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685440" y="3886200"/>
            <a:ext cx="8226360" cy="17524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46"/>
                </a:solidFill>
                <a:latin typeface="Lucida Sans Unicode"/>
              </a:rPr>
              <a:t>                                                  </a:t>
            </a:r>
            <a:r>
              <a:rPr b="0" lang="en-US" sz="2200" spc="-1" strike="noStrike">
                <a:solidFill>
                  <a:srgbClr val="464646"/>
                </a:solidFill>
                <a:latin typeface="HY강B"/>
                <a:ea typeface="HY강B"/>
              </a:rPr>
              <a:t>5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조 김보기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조원준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강경구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하수은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신한별 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457200" y="1241280"/>
            <a:ext cx="8229600" cy="476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톨루엔 성분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포름알데히드 함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벤젠의 수소원자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개를 메틸기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基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로 치환한 화합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무색의 액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석탄을 건류하여 얻은 경유를 황산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으로 씻은 다음 정류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精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)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하여 만듬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피부 보호막 녹이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 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피부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두통 일으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중추신경 장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혼수상태 등 유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0" name="Rectangle 2" descr=""/>
          <p:cNvPicPr/>
          <p:nvPr/>
        </p:nvPicPr>
        <p:blipFill>
          <a:blip r:embed="rId1"/>
          <a:stretch/>
        </p:blipFill>
        <p:spPr>
          <a:xfrm>
            <a:off x="360360" y="268200"/>
            <a:ext cx="833292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 txBox="1"/>
          <p:nvPr/>
        </p:nvSpPr>
        <p:spPr>
          <a:xfrm>
            <a:off x="272880" y="1323720"/>
            <a:ext cx="8413920" cy="480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포름알데히드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함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메탄올을 산화시켜 얻는 기체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로자극적인  냄새 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환원성이 강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알레르기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접촉성 피부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두드러기 등 일으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결막에 큰 자극줌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2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 txBox="1"/>
          <p:nvPr/>
        </p:nvSpPr>
        <p:spPr>
          <a:xfrm>
            <a:off x="457200" y="122868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접착부분이 화학성분으로 이루어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짐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포름알데히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(Formaldehyde)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검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눈두덩 피부를 자극하여 염증이 생기거나  색소침착이 생겨 단단하게 만듬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장기간 사용할 경우 피부가 늘어지게 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려움증으로 눈이 빨갛게 충혈되는 현상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발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4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고정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가발 망의 실리콘 테두리를 이용하여 두피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에 고정하는 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탈 부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의료용 양면 테이프를 이용하여 고정하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는 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혼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특수 제작된 패치를 이용하여 자신의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모발이나 두피에 부착하는 다기능 부착공법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6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 txBox="1"/>
          <p:nvPr/>
        </p:nvSpPr>
        <p:spPr>
          <a:xfrm>
            <a:off x="457200" y="2101320"/>
            <a:ext cx="4038480" cy="40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408" name="Picture 5" descr="http://cfs12.blog.daum.net/original/16/blog/2008/02/19/12/11/47ba48c55d83c&amp;filename=DSC00419.JPG"/>
          <p:cNvPicPr/>
          <p:nvPr/>
        </p:nvPicPr>
        <p:blipFill>
          <a:blip r:embed="rId1"/>
          <a:stretch/>
        </p:blipFill>
        <p:spPr>
          <a:xfrm>
            <a:off x="4681440" y="1346040"/>
            <a:ext cx="3784680" cy="4534200"/>
          </a:xfrm>
          <a:prstGeom prst="rect">
            <a:avLst/>
          </a:prstGeom>
          <a:ln w="0">
            <a:noFill/>
          </a:ln>
        </p:spPr>
      </p:pic>
      <p:pic>
        <p:nvPicPr>
          <p:cNvPr id="409" name="제목 11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17" descr="5409209782"/>
          <p:cNvPicPr/>
          <p:nvPr/>
        </p:nvPicPr>
        <p:blipFill>
          <a:blip r:embed="rId3"/>
          <a:stretch/>
        </p:blipFill>
        <p:spPr>
          <a:xfrm>
            <a:off x="457200" y="1346040"/>
            <a:ext cx="4224240" cy="478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눈이 가늘고 좁은 경우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속눈썹길이 반으로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잘라 눈썹 끝에만 붙임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속 쌍꺼풀인 경우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속눈썹길이 반보다 길게 잘   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라 눈앞머리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1/3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띄우고 붙임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눈에 힘이 없고 라인이 분명 하지 않은 경우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부분속눈썹을 전체적으로 붙임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2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Picture 7" descr="1111"/>
          <p:cNvPicPr/>
          <p:nvPr/>
        </p:nvPicPr>
        <p:blipFill>
          <a:blip r:embed="rId1"/>
          <a:stretch/>
        </p:blipFill>
        <p:spPr>
          <a:xfrm>
            <a:off x="457200" y="1855800"/>
            <a:ext cx="3695760" cy="352116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9" descr="이미지 썸네일"/>
          <p:cNvPicPr/>
          <p:nvPr/>
        </p:nvPicPr>
        <p:blipFill>
          <a:blip r:embed="rId2"/>
          <a:stretch/>
        </p:blipFill>
        <p:spPr>
          <a:xfrm>
            <a:off x="4152960" y="1855800"/>
            <a:ext cx="4295880" cy="3521160"/>
          </a:xfrm>
          <a:prstGeom prst="rect">
            <a:avLst/>
          </a:prstGeom>
          <a:ln w="0">
            <a:noFill/>
          </a:ln>
        </p:spPr>
      </p:pic>
      <p:pic>
        <p:nvPicPr>
          <p:cNvPr id="415" name="Rectangle 5" descr=""/>
          <p:cNvPicPr/>
          <p:nvPr/>
        </p:nvPicPr>
        <p:blipFill>
          <a:blip r:embed="rId3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 txBox="1"/>
          <p:nvPr/>
        </p:nvSpPr>
        <p:spPr>
          <a:xfrm>
            <a:off x="457200" y="1599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7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1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19" name="Picture 3" descr="C:\Documents and Settings\user\바탕 화면\1.JPG"/>
          <p:cNvPicPr/>
          <p:nvPr/>
        </p:nvPicPr>
        <p:blipFill>
          <a:blip r:embed="rId2"/>
          <a:stretch/>
        </p:blipFill>
        <p:spPr>
          <a:xfrm>
            <a:off x="1986120" y="2219400"/>
            <a:ext cx="5171760" cy="161604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4" descr="C:\Documents and Settings\user\바탕 화면\2.JPG"/>
          <p:cNvPicPr/>
          <p:nvPr/>
        </p:nvPicPr>
        <p:blipFill>
          <a:blip r:embed="rId3"/>
          <a:stretch/>
        </p:blipFill>
        <p:spPr>
          <a:xfrm>
            <a:off x="1986120" y="3835440"/>
            <a:ext cx="5171760" cy="16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1" descr="C:\Documents and Settings\user\바탕 화면\3.JPG"/>
          <p:cNvPicPr/>
          <p:nvPr/>
        </p:nvPicPr>
        <p:blipFill>
          <a:blip r:embed="rId2"/>
          <a:stretch/>
        </p:blipFill>
        <p:spPr>
          <a:xfrm>
            <a:off x="457200" y="1663560"/>
            <a:ext cx="5229360" cy="144936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2" descr="C:\Documents and Settings\user\바탕 화면\4.JPG"/>
          <p:cNvPicPr/>
          <p:nvPr/>
        </p:nvPicPr>
        <p:blipFill>
          <a:blip r:embed="rId3"/>
          <a:stretch/>
        </p:blipFill>
        <p:spPr>
          <a:xfrm>
            <a:off x="2335320" y="1663560"/>
            <a:ext cx="5200560" cy="1449360"/>
          </a:xfrm>
          <a:prstGeom prst="rect">
            <a:avLst/>
          </a:prstGeom>
          <a:ln w="0">
            <a:noFill/>
          </a:ln>
        </p:spPr>
      </p:pic>
      <p:sp>
        <p:nvSpPr>
          <p:cNvPr id="424" name="TextBox 6"/>
          <p:cNvSpPr/>
          <p:nvPr/>
        </p:nvSpPr>
        <p:spPr>
          <a:xfrm>
            <a:off x="457200" y="3421080"/>
            <a:ext cx="82296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붙일 위치를 깨끗이 닦아 쌍 커풀 라인 위치 잡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2. Y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자 스틱을 투명테이프에 반 정도 붙여 테이프를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살짝</a:t>
            </a: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눌러줌</a:t>
            </a: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3. Y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자 스틱으로 쌍 커풀 테이프를 눌러 라인 형성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하여 안정이 되게 함</a:t>
            </a: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 txBox="1"/>
          <p:nvPr/>
        </p:nvSpPr>
        <p:spPr>
          <a:xfrm>
            <a:off x="177480" y="1187280"/>
            <a:ext cx="8761320" cy="481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1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클립으로 탈착 할수 있는 형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필요와 사용목적에 따라 클립을 사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1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머리핀을 이용한 인조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머리 치장을 위해 모발 염색을 해야하는 불편함과 모발손상을 없애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모발 어느 위치에도 간편하게 다양한 칼라의 머리카락을 위치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개성 있게 표현할 수 있음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6" name="제목 8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7200" y="1143000"/>
            <a:ext cx="40384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접착 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1.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미용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가발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인조속눈썹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아이참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1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이용 목적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2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종류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3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접착 성분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4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유해물질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5)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착용방법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과정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6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해결방안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Lucida Sans Unicode"/>
              </a:rPr>
              <a:t>               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648320" y="1143000"/>
            <a:ext cx="40384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2.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식품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: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푸드바인드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멜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    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라민파동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1)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피해사례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2)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해결방안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81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속눈썹연장세럼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자연성분인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펩타이드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 주원료로 부작용없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효과가 확실하며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주 정도 사용으로 확실하게 달라진 속눈썹을 느낄 수 있음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펩타이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미노산의 중합체임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소수의 아미노산이 연결된 형태→ 펩티드많은 아미노산이 연결→단백질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8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피부가 쳐지는 경향이 있으므로 가능하면 사용을 자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매몰 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절개 법 시술로 비용은 들지만 효과는 아이참 보다 배로 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0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 txBox="1"/>
          <p:nvPr/>
        </p:nvSpPr>
        <p:spPr>
          <a:xfrm>
            <a:off x="627120" y="2169720"/>
            <a:ext cx="8229600" cy="364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Lucida Sans Unicode"/>
              </a:rPr>
              <a:t>                               </a:t>
            </a:r>
            <a:endParaRPr b="0" lang="en-US" sz="5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5400" spc="-1" strike="noStrike">
                <a:solidFill>
                  <a:srgbClr val="000000"/>
                </a:solidFill>
                <a:latin typeface="HY강B"/>
                <a:ea typeface="HY강B"/>
              </a:rPr>
              <a:t>푸드바인드</a:t>
            </a:r>
            <a:r>
              <a:rPr b="0" lang="en-US" sz="54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5400" spc="-1" strike="noStrike">
                <a:solidFill>
                  <a:srgbClr val="000000"/>
                </a:solidFill>
                <a:latin typeface="HY강B"/>
                <a:ea typeface="HY강B"/>
              </a:rPr>
              <a:t>멜라민파동</a:t>
            </a: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2" name="제목 2" descr=""/>
          <p:cNvPicPr/>
          <p:nvPr/>
        </p:nvPicPr>
        <p:blipFill>
          <a:blip r:embed="rId1"/>
          <a:stretch/>
        </p:blipFill>
        <p:spPr>
          <a:xfrm>
            <a:off x="622440" y="2724120"/>
            <a:ext cx="824040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34" name="AutoShape 3"/>
          <p:cNvSpPr/>
          <p:nvPr/>
        </p:nvSpPr>
        <p:spPr>
          <a:xfrm>
            <a:off x="1143000" y="2825640"/>
            <a:ext cx="2765520" cy="2073240"/>
          </a:xfrm>
          <a:prstGeom prst="roundRect">
            <a:avLst>
              <a:gd name="adj" fmla="val 6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5" name="AutoShape 5"/>
          <p:cNvSpPr/>
          <p:nvPr/>
        </p:nvSpPr>
        <p:spPr>
          <a:xfrm>
            <a:off x="990720" y="2825640"/>
            <a:ext cx="2765160" cy="20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36" name="foodbind.avi" descr=""/>
          <p:cNvPicPr/>
          <p:nvPr/>
        </p:nvPicPr>
        <p:blipFill>
          <a:blip r:embed="rId2"/>
          <a:stretch/>
        </p:blipFill>
        <p:spPr>
          <a:xfrm>
            <a:off x="3048120" y="260028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1334" fill="hold"/>
                                        <p:tgtEl>
                                          <p:spTgt spid="4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435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435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4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" restart="whenNotActive" nodeType="interactiveSeq" fill="hold">
                <p:stCondLst>
                  <p:cond evt="onClick">
                    <p:tgtEl>
                      <p:spTgt spid="436"/>
                    </p:tgtEl>
                  </p:cond>
                </p:stCondLst>
                <p:childTnLst>
                  <p:par>
                    <p:cTn id="13" fill="hold">
                      <p:stCondLst>
                        <p:cond evt="onClick">
                          <p:tgtEl>
                            <p:spTgt spid="436"/>
                          </p:tgtEl>
                        </p:cond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6" dur="1" fill="hold"/>
                                        <p:tgtEl>
                                          <p:spTgt spid="4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Rectangle 1" descr=""/>
          <p:cNvPicPr/>
          <p:nvPr/>
        </p:nvPicPr>
        <p:blipFill>
          <a:blip r:embed="rId1"/>
          <a:stretch/>
        </p:blipFill>
        <p:spPr>
          <a:xfrm>
            <a:off x="195120" y="285840"/>
            <a:ext cx="8498160" cy="1098360"/>
          </a:xfrm>
          <a:prstGeom prst="rect">
            <a:avLst/>
          </a:prstGeom>
          <a:ln w="0">
            <a:noFill/>
          </a:ln>
        </p:spPr>
      </p:pic>
      <p:sp>
        <p:nvSpPr>
          <p:cNvPr id="438" name="PlaceHolder 1"/>
          <p:cNvSpPr>
            <a:spLocks noGrp="1"/>
          </p:cNvSpPr>
          <p:nvPr>
            <p:ph/>
          </p:nvPr>
        </p:nvSpPr>
        <p:spPr>
          <a:xfrm>
            <a:off x="457200" y="1604520"/>
            <a:ext cx="82281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계란흰자분말과감자전분등이 주원료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잘게 부숴진 고기를 결합시키는 용도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고가의 갈비를 정상적인방법으로 위생적으로 조리할때 사용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인체에는 무해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40" name="PlaceHolder 1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해결방안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생갈비와 접착갈비 법적구분을 정확하게 제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집중단속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축산물가공처리 법과 시행규칙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농림부 고시 등 관계 법령을 수정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42" name="AutoShape 3"/>
          <p:cNvSpPr/>
          <p:nvPr/>
        </p:nvSpPr>
        <p:spPr>
          <a:xfrm>
            <a:off x="1143000" y="2940120"/>
            <a:ext cx="2765520" cy="2073240"/>
          </a:xfrm>
          <a:prstGeom prst="roundRect">
            <a:avLst>
              <a:gd name="adj" fmla="val 6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3" name="AutoShape 5"/>
          <p:cNvSpPr/>
          <p:nvPr/>
        </p:nvSpPr>
        <p:spPr>
          <a:xfrm>
            <a:off x="1143000" y="2940120"/>
            <a:ext cx="2765520" cy="20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44" name="mel.avi" descr=""/>
          <p:cNvPicPr/>
          <p:nvPr/>
        </p:nvPicPr>
        <p:blipFill>
          <a:blip r:embed="rId2"/>
          <a:stretch/>
        </p:blipFill>
        <p:spPr>
          <a:xfrm>
            <a:off x="3048120" y="260028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" dur="39267" fill="hold"/>
                                        <p:tgtEl>
                                          <p:spTgt spid="4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" restart="whenNotActive" nodeType="interactiveSeq" fill="hold">
                <p:stCondLst>
                  <p:cond evt="onClick">
                    <p:tgtEl>
                      <p:spTgt spid="443"/>
                    </p:tgtEl>
                  </p:cond>
                </p:stCondLst>
                <p:childTnLst>
                  <p:par>
                    <p:cTn id="24" fill="hold">
                      <p:stCondLst>
                        <p:cond evt="onClick">
                          <p:tgtEl>
                            <p:spTgt spid="443"/>
                          </p:tgtEl>
                        </p:cond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7" dur="1" fill="hold"/>
                                        <p:tgtEl>
                                          <p:spTgt spid="4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" restart="whenNotActive" nodeType="interactiveSeq" fill="hold">
                <p:stCondLst>
                  <p:cond evt="onClick">
                    <p:tgtEl>
                      <p:spTgt spid="444"/>
                    </p:tgtEl>
                  </p:cond>
                </p:stCondLst>
                <p:childTnLst>
                  <p:par>
                    <p:cTn id="29" fill="hold">
                      <p:stCondLst>
                        <p:cond evt="onClick">
                          <p:tgtEl>
                            <p:spTgt spid="444"/>
                          </p:tgtEl>
                        </p:cond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2" dur="1" fill="hold"/>
                                        <p:tgtEl>
                                          <p:spTgt spid="4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46" name="PlaceHolder 1"/>
          <p:cNvSpPr>
            <a:spLocks noGrp="1"/>
          </p:cNvSpPr>
          <p:nvPr>
            <p:ph/>
          </p:nvPr>
        </p:nvSpPr>
        <p:spPr>
          <a:xfrm>
            <a:off x="457200" y="1419120"/>
            <a:ext cx="8228160" cy="471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신장결석이나 신부전증 환자가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53,000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명이 발생하였고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이 중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12,800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명은 입원치료를 받고 있으며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4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명의 유아가 사망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멜라민은 우유에 첨가할 경우 단백질의 함유량을 실제보다 부풀릴 수 있기에 사용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중국산 식품에 대한 신뢰도 큰 타격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7" name="Rectangle 1" descr=""/>
          <p:cNvPicPr/>
          <p:nvPr/>
        </p:nvPicPr>
        <p:blipFill>
          <a:blip r:embed="rId1"/>
          <a:stretch/>
        </p:blipFill>
        <p:spPr>
          <a:xfrm>
            <a:off x="195120" y="285840"/>
            <a:ext cx="8498160" cy="1098360"/>
          </a:xfrm>
          <a:prstGeom prst="rect">
            <a:avLst/>
          </a:prstGeom>
          <a:ln w="0">
            <a:noFill/>
          </a:ln>
        </p:spPr>
      </p:pic>
      <p:sp>
        <p:nvSpPr>
          <p:cNvPr id="448" name="PlaceHolder 1"/>
          <p:cNvSpPr>
            <a:spLocks noGrp="1"/>
          </p:cNvSpPr>
          <p:nvPr>
            <p:ph/>
          </p:nvPr>
        </p:nvSpPr>
        <p:spPr>
          <a:xfrm>
            <a:off x="457200" y="1604520"/>
            <a:ext cx="82281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해결방안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정부가 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위해 요소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와 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품질 관리 요소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를 명확히 구분해 정책을 수립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집행 해야함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식품안전처와 같은 제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의 독립기구 설립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제목 3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089920" cy="1841400"/>
          </a:xfrm>
          <a:prstGeom prst="rect">
            <a:avLst/>
          </a:prstGeom>
          <a:ln w="0">
            <a:noFill/>
          </a:ln>
        </p:spPr>
      </p:pic>
      <p:sp>
        <p:nvSpPr>
          <p:cNvPr id="450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27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제목 4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089920" cy="1841400"/>
          </a:xfrm>
          <a:prstGeom prst="rect">
            <a:avLst/>
          </a:prstGeom>
          <a:ln w="0">
            <a:noFill/>
          </a:ln>
        </p:spPr>
      </p:pic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464646"/>
                </a:solidFill>
                <a:latin typeface="HY강B"/>
                <a:ea typeface="HY강B"/>
              </a:rPr>
              <a:t>가발</a:t>
            </a:r>
            <a:r>
              <a:rPr b="0" lang="en-US" sz="4000" spc="-1" strike="noStrike">
                <a:solidFill>
                  <a:srgbClr val="464646"/>
                </a:solidFill>
                <a:latin typeface="HY강B"/>
                <a:ea typeface="HY강B"/>
              </a:rPr>
              <a:t>,</a:t>
            </a:r>
            <a:r>
              <a:rPr b="0" lang="ko-KR" sz="4000" spc="-1" strike="noStrike">
                <a:solidFill>
                  <a:srgbClr val="464646"/>
                </a:solidFill>
                <a:latin typeface="HY강B"/>
                <a:ea typeface="HY강B"/>
              </a:rPr>
              <a:t>인조속눈썹</a:t>
            </a:r>
            <a:r>
              <a:rPr b="0" lang="en-US" sz="4000" spc="-1" strike="noStrike">
                <a:solidFill>
                  <a:srgbClr val="464646"/>
                </a:solidFill>
                <a:latin typeface="HY강B"/>
                <a:ea typeface="HY강B"/>
              </a:rPr>
              <a:t>,</a:t>
            </a:r>
            <a:r>
              <a:rPr b="0" lang="ko-KR" sz="4000" spc="-1" strike="noStrike">
                <a:solidFill>
                  <a:srgbClr val="464646"/>
                </a:solidFill>
                <a:latin typeface="HY강B"/>
                <a:ea typeface="HY강B"/>
              </a:rPr>
              <a:t>아이참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456840" y="1143000"/>
            <a:ext cx="8427960" cy="523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분장용이나 장식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무대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·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연예용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·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의례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·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법관용 등 특종 직업용 사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속눈썹숱이적어 마스카라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효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보지못하는사람위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쌍커풀이 없거나 쌍커풀선이 약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사람들이 이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5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탈모용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전체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부분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패션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악세서리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연극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마네킹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코스프레용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의료용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익스텐션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짧은머리를 긴머리로바꾸는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붙임머리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7" name="Rectangle 2" descr=""/>
          <p:cNvPicPr/>
          <p:nvPr/>
        </p:nvPicPr>
        <p:blipFill>
          <a:blip r:embed="rId1"/>
          <a:stretch/>
        </p:blipFill>
        <p:spPr>
          <a:xfrm>
            <a:off x="360360" y="268200"/>
            <a:ext cx="833292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형태별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눈썹의 양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길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색상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심는형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눈썹의 숱 많이 표현 하고자       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하는부위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굵고 긴 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굵고 짧은 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얇고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긴 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얇고 짧은 형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9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Picture 4" descr="접착제"/>
          <p:cNvPicPr/>
          <p:nvPr/>
        </p:nvPicPr>
        <p:blipFill>
          <a:blip r:embed="rId1"/>
          <a:stretch/>
        </p:blipFill>
        <p:spPr>
          <a:xfrm>
            <a:off x="763560" y="1600200"/>
            <a:ext cx="3398760" cy="452592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 txBox="1"/>
          <p:nvPr/>
        </p:nvSpPr>
        <p:spPr>
          <a:xfrm>
            <a:off x="4162320" y="1600200"/>
            <a:ext cx="4694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HY강B"/>
                <a:ea typeface="HY강B"/>
              </a:rPr>
              <a:t>: </a:t>
            </a:r>
            <a:r>
              <a:rPr b="0" lang="ko-KR" sz="3200" spc="-1" strike="noStrike" u="sng">
                <a:solidFill>
                  <a:srgbClr val="ffffff"/>
                </a:solidFill>
                <a:uFillTx/>
                <a:latin typeface="HY강B"/>
                <a:ea typeface="HY강B"/>
              </a:rPr>
              <a:t>노테이프본드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실리콘접착제로 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고정부착형가발에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사용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, 2-3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주이상의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강한접착력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92" name="제목 1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내용 개체 틀 10" descr="5482855381.jpg"/>
          <p:cNvPicPr/>
          <p:nvPr/>
        </p:nvPicPr>
        <p:blipFill>
          <a:blip r:embed="rId1"/>
          <a:stretch/>
        </p:blipFill>
        <p:spPr>
          <a:xfrm>
            <a:off x="846000" y="2033640"/>
            <a:ext cx="3206880" cy="3562200"/>
          </a:xfrm>
          <a:prstGeom prst="rect">
            <a:avLst/>
          </a:prstGeom>
          <a:ln w="0">
            <a:noFill/>
          </a:ln>
        </p:spPr>
      </p:pic>
      <p:sp>
        <p:nvSpPr>
          <p:cNvPr id="394" name=""/>
          <p:cNvSpPr txBox="1"/>
          <p:nvPr/>
        </p:nvSpPr>
        <p:spPr>
          <a:xfrm>
            <a:off x="4340160" y="1600200"/>
            <a:ext cx="4346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인조속눈썹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 u="sng">
                <a:solidFill>
                  <a:srgbClr val="ffffff"/>
                </a:solidFill>
                <a:uFillTx/>
                <a:latin typeface="HY강B"/>
                <a:ea typeface="HY강B"/>
              </a:rPr>
              <a:t>글루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접착제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i="1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아세트산비닐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i="1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수지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로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독성이없어 안전하며 마른후에도 씻어낼수있음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95" name="제목 6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 txBox="1"/>
          <p:nvPr/>
        </p:nvSpPr>
        <p:spPr>
          <a:xfrm>
            <a:off x="4648320" y="1582200"/>
            <a:ext cx="40384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3.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아이참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양면성 테이프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점착제가 발라져 있음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풀이나 고무풀 등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97" name="내용 개체 틀 4" descr="123.jpg"/>
          <p:cNvPicPr/>
          <p:nvPr/>
        </p:nvPicPr>
        <p:blipFill>
          <a:blip r:embed="rId1"/>
          <a:stretch/>
        </p:blipFill>
        <p:spPr>
          <a:xfrm>
            <a:off x="287280" y="2224080"/>
            <a:ext cx="4038480" cy="2735280"/>
          </a:xfrm>
          <a:prstGeom prst="rect">
            <a:avLst/>
          </a:prstGeom>
          <a:ln w="0">
            <a:noFill/>
          </a:ln>
        </p:spPr>
      </p:pic>
      <p:pic>
        <p:nvPicPr>
          <p:cNvPr id="398" name="제목 1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1T12:28:52Z</dcterms:created>
  <dc:creator>sec</dc:creator>
  <dc:description/>
  <dc:language>en-US</dc:language>
  <cp:lastModifiedBy>sec</cp:lastModifiedBy>
  <dcterms:modified xsi:type="dcterms:W3CDTF">2009-12-02T04:33:16Z</dcterms:modified>
  <cp:revision>29</cp:revision>
  <dc:subject/>
  <dc:title>등잔밑이 어둡다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0</vt:r8>
  </property>
</Properties>
</file>